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3AA8-DABE-4674-8A57-C3D29ABC1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9781-9FB0-41AE-981B-6B655FA9A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E8D1-DB40-4F63-805B-366FAE9E1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F9EE-B292-4002-A403-3F0E79711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E7E0-0924-4EC6-A3E7-31B11E051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CF5C-F4B6-49E2-B9C1-BC951DABC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6324-8BAB-49E1-A648-858990FEA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8D1F-0B2A-4BF3-8383-229B5F51F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2978-4FF0-4D48-8F5F-66A79FF93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E50D-0A1B-4C39-A2CD-0F9DF379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C271-0FAF-42C8-876E-893D2985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3D21-DD38-42F8-BABF-5022C64F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46A6-3FFC-444A-8847-670AAD999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Word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erra Wal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660066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llection of servers that offer netne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ccff99"/>
            </a:gs>
            <a:gs pos="100000">
              <a:srgbClr val="00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radley Hand ITC"/>
              </a:rPr>
              <a:t>Bandwidth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Amount of data and the speed at which the data can travel over the transmission med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3580920"/>
            <a:ext cx="289548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A computer that access a server to request infor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3600" y="2133720"/>
            <a:ext cx="2286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DS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Digital subscriber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cc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reless Networks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ype of network that does not require the use of c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3733920"/>
            <a:ext cx="2590920" cy="25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iquet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"/>
              </a:rPr>
              <a:t>The etiquette that should be followed when using a net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23920" y="2285640"/>
            <a:ext cx="4038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Interface C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"/>
              </a:rPr>
              <a:t>Circuit board that goes into the base unit of a computer or other device in a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heel spokes="2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42840" y="304560"/>
            <a:ext cx="61722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b Sites</a:t>
            </a:r>
            <a:br>
              <a:rPr sz="4000"/>
            </a:br>
            <a:r>
              <a:rPr b="1" lang="en-US" sz="2000" spc="-1" strike="noStrike">
                <a:solidFill>
                  <a:srgbClr val="000000"/>
                </a:solidFill>
                <a:latin typeface="Bradley Hand ITC"/>
              </a:rPr>
              <a:t>A series of related web pag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28600" y="5257440"/>
            <a:ext cx="6477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radley Hand ITC"/>
              </a:rPr>
              <a:t>A stand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ology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Birch Std"/>
              </a:rPr>
              <a:t>The logical arrangement of the nodes on a net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Std Black"/>
              </a:rPr>
              <a:t>Internet services providers is company that offers access to the internet for a f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-mai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 mail which allows individuals with an account to send messages to another person with en e-ma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R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 relay chat was developed in 19988 by Jarkko Oikarinen and allows instant online communicating with someone else who is also online by typing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lletin board service allows a user to participate in a discussion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ertext transfer protocol is used for handling the transmission of pages between a web server and a web brows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66"/>
            </a:gs>
            <a:gs pos="50000">
              <a:srgbClr val="ffffff"/>
            </a:gs>
            <a:gs pos="100000">
              <a:srgbClr val="66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gram used in networks such as the internet to allow users to remotely log on to a server on the net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2819160"/>
            <a:ext cx="25909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p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f the first widespread internet browsing ser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257440" y="1599840"/>
            <a:ext cx="3429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an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etwork used by a single organization and only accessible by authorized us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over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rewal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A network security system that prevents unauthorized network ac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819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 Hand ITC"/>
              </a:rPr>
              <a:t>Extra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 Hand ITC"/>
              </a:rPr>
              <a:t>Extended intranet that provides various level of access to authorized members of the publ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05520" y="2819160"/>
            <a:ext cx="3200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 Hand ITC"/>
              </a:rPr>
              <a:t>Online Prof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radley Hand ITC"/>
              </a:rPr>
              <a:t>Marketing techniques that collects online data about consum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k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files that contain information about the web sites an individual has visi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15:26:29Z</dcterms:created>
  <dc:creator>762703</dc:creator>
  <dc:description/>
  <dc:language>en-US</dc:language>
  <cp:lastModifiedBy>762703</cp:lastModifiedBy>
  <dcterms:modified xsi:type="dcterms:W3CDTF">2009-04-20T15:25:03Z</dcterms:modified>
  <cp:revision>4</cp:revision>
  <dc:subject/>
  <dc:title>Key Words </dc:title>
</cp:coreProperties>
</file>